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D4A-F18A-4272-825F-1B775DB0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BB9-E21D-4CA6-A375-FABA1D36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982-0F3A-4155-874E-BC90B300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549-0BAC-4B66-BEBC-15B0562A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63C4-8F04-4F82-8B0D-A5418980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5F46-572B-4F02-8659-67BA0FD5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9F05-570C-4157-B49D-B5584E48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670A-DBA6-4A40-AA59-BF25BF7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947-798D-49AC-889D-D67B8568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877E-F7EA-4381-BFE4-F47E2AB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24B0-9891-4184-80FC-3AD98DEA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872-F99B-450D-B799-426295AF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1EAB-65F8-4B15-8DFA-202BE37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74C2-A51D-4B1D-A3E7-46D3EDFE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16A0-B8BA-456A-A474-E8445F82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9989-D8BD-49C6-86F9-C0B6639D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421F-348A-4A6B-92CA-E1A941E0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6FCE-C25D-4E79-BD1A-12E777CE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8637-1F7F-4A3E-95C0-F640ADA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613D-3B7D-4446-8F32-9279114D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7099-1370-482B-B531-1E075D23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4BC1-7D34-4E98-8B59-61B18BFE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0DB-CDCF-460F-B85B-16EADDF7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6044-BCDD-48BC-8AB7-D36C57FE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B6DD-8E0A-4A43-935C-CB383C5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D60F-0483-466D-95DE-47B89BD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C69B-E997-4F16-A2B8-3350097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759C-F0EB-43E7-B743-80E4F15F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EAE9-88B3-4124-A8D8-687105D2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1AD5-667D-44AC-90B3-545AA5D4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FE35-2A04-4120-AD33-80F304D6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6666-2F96-45C6-ACFF-4B9D966F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D742-B1D1-4711-98D8-E6F130D3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D4C-A917-4868-9E44-F8730C82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34C1-0BF1-49D0-9A07-E71196FC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9E72D-0877-475D-BA71-19D7C30E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D16F-2C0D-4CF7-B755-F7F4FB2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3087-7A5D-4C01-8EC7-105AA3EF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8E21-3260-4196-BB7F-90B4E128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62A0-C68A-48C3-B4ED-C4B2ADA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3BE0-E750-4392-973D-EB433663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51E4-2223-465B-AD0A-1454E76A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E24C-6FCF-4C0D-A066-8E42B021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5E418-B82D-4018-8FEC-EC969D25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148-EE46-4B16-98AE-46C412F8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FE53-68C1-419A-9BDA-BB7AD1A0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E4F3-DA27-498D-8814-D59F3293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6B85-5F86-42E3-92C1-CA86B44E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F025C-DD4F-4FE3-91C5-1120AB5C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2D21-D935-4A97-A679-55982FA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7E96-0714-43E1-894B-CF2B9A4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3982-039F-45A3-9F51-A5C3EF6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B341-9A95-40DF-9D43-D9E21DDB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FD891-EC65-4C12-A698-8F92939B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00DC9-C075-4EB6-80BF-8B333A26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4F4-680E-4E81-8F5A-726C496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FF0E-11B8-4943-A790-CAB03A16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D14-DDDB-4E4D-ADC3-1A6D1DC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10D-B24A-414D-8C4C-8302A17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262-4986-48CB-BF8B-462528B5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97A4-66F1-4062-8811-6F9220C24A4D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20D3-84EC-43F8-A15E-044DC7EFA9FF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1C01-672F-43EE-BB51-A29EE6D4B0DD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C459-E030-49F9-909E-3834E0780E0F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0AA-43D8-4E63-B753-F5D600DAD9C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hree%20Way%20Confs/Team%201/proforma%20conferences%20prep.doc" TargetMode="External"/><Relationship Id="rId2" Type="http://schemas.openxmlformats.org/officeDocument/2006/relationships/hyperlink" Target="file:///Three%20Way%20Confs/Team%202/Self%20Reflec%20for%20learn%20journal%20-%20sem%201%20%202.doc" TargetMode="External"/><Relationship Id="rId3" Type="http://schemas.openxmlformats.org/officeDocument/2006/relationships/hyperlink" Target="file:///Three%20Way%20Confs/Team%202/Maths%20and%20English%20Ach%20impr.doc" TargetMode="External"/><Relationship Id="rId4" Type="http://schemas.openxmlformats.org/officeDocument/2006/relationships/hyperlink" Target="file:///Three%20Way%20Confs/Team%202/Interview%20Reflec%20tags.doc" TargetMode="External"/><Relationship Id="rId5" Type="http://schemas.openxmlformats.org/officeDocument/2006/relationships/hyperlink" Target="file:///Three%20Way%20Confs/Team%202/My%203-way%20conference%20notes.doc" TargetMode="External"/><Relationship Id="rId6" Type="http://schemas.openxmlformats.org/officeDocument/2006/relationships/hyperlink" Target="file:///Three%20Way%20Confs/Team%202/My%203-way%20conference%20notes.doc" TargetMode="External"/><Relationship Id="rId7" Type="http://schemas.openxmlformats.org/officeDocument/2006/relationships/hyperlink" Target="file:///Three%20Way%20Confs/Team%203/Personal%20Learning.doc" TargetMode="External"/><Relationship Id="rId8" Type="http://schemas.openxmlformats.org/officeDocument/2006/relationships/hyperlink" Target="file:///Three%20Way%20Confs/Team%203/Interpersonal%20development.doc" TargetMode="External"/><Relationship Id="rId9" Type="http://schemas.openxmlformats.org/officeDocument/2006/relationships/hyperlink" Target="file:///Three%20Way%20Confs/Team%203/Achievements%20team%203.doc" TargetMode="External"/><Relationship Id="rId10" Type="http://schemas.openxmlformats.org/officeDocument/2006/relationships/hyperlink" Target="file:///Three%20Way%20Confs/Team%203/i%20want%20you%20to%20notice%20t3.doc" TargetMode="External"/><Relationship Id="rId11" Type="http://schemas.openxmlformats.org/officeDocument/2006/relationships/hyperlink" Target="file:///Three%20Way%20Confs/Team%204/3%20Way%20Conference%20agenda.doc" TargetMode="External"/><Relationship Id="rId12" Type="http://schemas.openxmlformats.org/officeDocument/2006/relationships/hyperlink" Target="file:///Three%20Way%20Confs/Team%204/ID%20%20Buil%20Soc%20Rel%20%202.75.doc" TargetMode="External"/><Relationship Id="rId13" Type="http://schemas.openxmlformats.org/officeDocument/2006/relationships/hyperlink" Target="file:///Three%20Way%20Confs/Team%204/ID%20%20Working%20in%20teams%20%202.75.doc" TargetMode="External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96464"/>
                </a:solidFill>
                <a:latin typeface="Perpetua"/>
              </a:rPr>
              <a:t>Boroondara Park Primary Scho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4" descr="BPPS logo.BMP"/>
          <p:cNvPicPr/>
          <p:nvPr/>
        </p:nvPicPr>
        <p:blipFill>
          <a:blip r:embed="rId1"/>
          <a:stretch/>
        </p:blipFill>
        <p:spPr>
          <a:xfrm>
            <a:off x="3786120" y="4572000"/>
            <a:ext cx="1668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troduced in 2005 ( I&amp;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pollo Parkways Primary Scho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itially grades 3-6 &amp; options for 1-1 interview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troduced  the concept to the commun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ought feedback ( parents and studen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Timing (end Term 2- early Term 3) Pre or post written report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3" descr="BPPS logo.BMP"/>
          <p:cNvPicPr/>
          <p:nvPr/>
        </p:nvPicPr>
        <p:blipFill>
          <a:blip r:embed="rId1"/>
          <a:stretch/>
        </p:blipFill>
        <p:spPr>
          <a:xfrm>
            <a:off x="7286760" y="428760"/>
            <a:ext cx="116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ndalus"/>
                <a:ea typeface="Andalu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Student takes responsibility for their own lear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Self reflection and evalu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Goal setting and sha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eates a partnership (school-home)- open and honest dialogue. Everyone hears the same inform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evelops organisational and oral communication skil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Increases self conf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iscuss behaviou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Set future direc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Be the centre of the parent’s undivided attention – focused on learning nee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elebrate success!</a:t>
            </a:r>
            <a:br>
              <a:rPr sz="700"/>
            </a:br>
            <a:r>
              <a:rPr b="0" lang="en-AU" sz="7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3" descr="BPPS logo.BMP"/>
          <p:cNvPicPr/>
          <p:nvPr/>
        </p:nvPicPr>
        <p:blipFill>
          <a:blip r:embed="rId1"/>
          <a:stretch/>
        </p:blipFill>
        <p:spPr>
          <a:xfrm>
            <a:off x="7286760" y="285840"/>
            <a:ext cx="116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ndalus"/>
                <a:ea typeface="Andalus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Student 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ollects work that reflects what they have  learned (good, not so good and unique)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Evaluates own  strengths and weaknes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iscusses previous goals and sets new ones in Maths, English, Personal Learning and Interpersonal Development.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Follows an agen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Facilitates conferenc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Perpetua"/>
              </a:rPr>
              <a:t>	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9880" indent="-209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3" descr="BPPS logo.BMP"/>
          <p:cNvPicPr/>
          <p:nvPr/>
        </p:nvPicPr>
        <p:blipFill>
          <a:blip r:embed="rId1"/>
          <a:stretch/>
        </p:blipFill>
        <p:spPr>
          <a:xfrm>
            <a:off x="7072200" y="357120"/>
            <a:ext cx="116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ndalus"/>
                <a:ea typeface="Andalus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Parent :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Be a listen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Talk to student about work present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Ask questions;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can you tell me about this piece of work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did you have to do? Think about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skills did you have to use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would you do next time to improve your work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What goals have you set? How are they going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How can I help you meet your goals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Teacher :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Help student to prepare portfoli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Engage with student to ensure goals are understoo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During the conference ; guide, prompt, ask leading question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Student :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Facilitates- introduces parents, explain and discuss their portfolio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Perpetua"/>
              </a:rPr>
              <a:t>Seek questions from parents/teach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Perpetua"/>
              </a:rPr>
              <a:t>	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04480" indent="-204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3" descr="BPPS logo.BMP"/>
          <p:cNvPicPr/>
          <p:nvPr/>
        </p:nvPicPr>
        <p:blipFill>
          <a:blip r:embed="rId1"/>
          <a:stretch/>
        </p:blipFill>
        <p:spPr>
          <a:xfrm>
            <a:off x="7429680" y="214200"/>
            <a:ext cx="1161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Three Way Confer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Team 1 - Prep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Team 2 – Grade 1/2</a:t>
            </a:r>
            <a:br>
              <a:rPr sz="2200"/>
            </a:b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Thinking about my Learning</a:t>
            </a: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3"/>
              </a:rPr>
              <a:t>Achievements/improvements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4"/>
              </a:rPr>
              <a:t>Tags</a:t>
            </a: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5"/>
              </a:rPr>
              <a:t>T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6"/>
              </a:rPr>
              <a:t>ag explanation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Team 3 – Grade 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7"/>
              </a:rPr>
              <a:t>Personal Learning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8"/>
              </a:rPr>
              <a:t>Interpersonal development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9"/>
              </a:rPr>
              <a:t>Achievements, Improvements</a:t>
            </a: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0"/>
              </a:rPr>
              <a:t>Tag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Team 4 – Grade 5/6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1"/>
              </a:rPr>
              <a:t>Agenda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2"/>
              </a:rPr>
              <a:t>ID- Building Social Relationships , </a:t>
            </a:r>
            <a:r>
              <a:rPr b="0" lang="en-AU" sz="2200" spc="-1" strike="noStrike" u="sng">
                <a:solidFill>
                  <a:srgbClr val="cc9900"/>
                </a:solidFill>
                <a:uFillTx/>
                <a:latin typeface="Perpetua"/>
                <a:hlinkClick r:id="rId13"/>
              </a:rPr>
              <a:t>ID- Working in Teams, </a:t>
            </a:r>
            <a:r>
              <a:rPr b="0" lang="en-AU" sz="2200" spc="-1" strike="noStrike">
                <a:solidFill>
                  <a:srgbClr val="000000"/>
                </a:solidFill>
                <a:latin typeface="Perpetua"/>
              </a:rPr>
              <a:t>PL- Managing PL, PL- The individual Learner, Improvements, Achievements, Tag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3" descr="BPPS logo.BMP"/>
          <p:cNvPicPr/>
          <p:nvPr/>
        </p:nvPicPr>
        <p:blipFill>
          <a:blip r:embed="rId14"/>
          <a:stretch/>
        </p:blipFill>
        <p:spPr>
          <a:xfrm>
            <a:off x="7572240" y="285840"/>
            <a:ext cx="116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1:29:12Z</dcterms:created>
  <dc:creator>User</dc:creator>
  <dc:description/>
  <dc:language>en-US</dc:language>
  <cp:lastModifiedBy>08621331</cp:lastModifiedBy>
  <dcterms:modified xsi:type="dcterms:W3CDTF">2009-09-03T04:01:46Z</dcterms:modified>
  <cp:revision>13</cp:revision>
  <dc:subject/>
  <dc:title>Three Way Conferences</dc:title>
</cp:coreProperties>
</file>